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A3D7-3044-4F7F-A041-68A39C22C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69BD-2317-4FCA-B0FA-21B6654DD2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984F-A9BD-4F93-8951-92EC5A69DF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AD5D-7EBA-443F-B991-E579623A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A992-0B02-4D7E-954B-C6F5CB2F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A2C8-2BD9-4C92-BB24-467F7644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ED0A-BDD5-49CE-BA4B-0C289C79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CE23-275A-43F1-9582-8B9F6A4B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69C4-9D70-4564-9F13-184B8418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4BB4-7A7E-4FF8-A620-4677A828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409C-5BF6-4263-9975-EF68FBD1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CE19-7ED0-4C7A-98AD-C14A7E9D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019E-68AB-4D38-9F05-CB165EE9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DE93-5293-4AD9-89B2-45977902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549C-02A6-4E4E-9D7C-2CC70E47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71C1-A4CA-46DA-92C4-42E14137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228D-222D-4C48-9C7C-DB8AAEC8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CBF0-77C8-48A9-912E-5C99C0A8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A463-4C4A-459D-9034-021062E3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F417-37DA-4C69-9332-51DA30C9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A017-2E8F-4DEA-BD19-06136ECD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99E5-DB5E-4D14-9715-5C818E72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2602-4A32-4F73-958C-42ABF2BE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0068-87B6-493A-B6EF-64D05187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3A88-D772-41F4-A2DF-4A883BEB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49CF-EBF9-4E6D-BCBF-2793DF2A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64C3-8A79-404D-8990-9E7644B7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CA95-544E-4C55-B0CC-D1DFACDDDC2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E247-46F2-4D6B-9F49-5E0B14A3D56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http://lme.is.edu.ro/socrates/normal7.jpg"/>
          <p:cNvPicPr/>
          <p:nvPr/>
        </p:nvPicPr>
        <p:blipFill>
          <a:blip r:embed="rId1"/>
          <a:stretch/>
        </p:blipFill>
        <p:spPr>
          <a:xfrm>
            <a:off x="1332000" y="1052640"/>
            <a:ext cx="6408720" cy="43354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826920" y="189000"/>
            <a:ext cx="7201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b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MASINA VAN DE GRA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79280" y="642600"/>
            <a:ext cx="89647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Aceasta masina are doi poli : o sfera metalica goala in inter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numita </a:t>
            </a:r>
            <a:r>
              <a:rPr b="1" lang="en-US" sz="2400" spc="-1" strike="noStrike">
                <a:solidFill>
                  <a:srgbClr val="cccc00"/>
                </a:solidFill>
                <a:latin typeface="Baskerville Old Face"/>
              </a:rPr>
              <a:t>colectorul de sarcini</a:t>
            </a: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 si o alta mai mica numita </a:t>
            </a:r>
            <a:r>
              <a:rPr b="1" lang="en-US" sz="2400" spc="-1" strike="noStrike">
                <a:solidFill>
                  <a:srgbClr val="cccc00"/>
                </a:solidFill>
                <a:latin typeface="Baskerville Old Face"/>
              </a:rPr>
              <a:t>ecla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           </a:t>
            </a: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Colectorul se sprijina pe o coloana in care se afla o banda 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cauciuc sau matase cauciucata trecuta peste doua role cilindrice si c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poate fi pusa in miscare cu ajutorul unei manivele.Doua periute metali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ce ( una aflata la partea superioara, iar cealalta la partea inferioara a ma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sinii) preiau sarcinile care apar pe banda ca urmare a frecarii ei cu ce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doua role si le transmit celor doua sfere.Colectorul de sarcini se va elec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triza negativ, iar eclatorul se va electriza pozitiv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            </a:t>
            </a: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Accesorii ale masinii electrostatic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                                    </a:t>
            </a: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- casuta cu paratras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                                    </a:t>
            </a: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- conductor sfer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                                    </a:t>
            </a: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- conductor cilindric-con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                                    </a:t>
            </a: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- descarcator electr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                                    </a:t>
            </a: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- morisca elect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                                    </a:t>
            </a:r>
            <a:r>
              <a:rPr b="1" lang="en-US" sz="2400" spc="-1" strike="noStrike">
                <a:solidFill>
                  <a:srgbClr val="ffcc66"/>
                </a:solidFill>
                <a:latin typeface="Baskerville Old Face"/>
              </a:rPr>
              <a:t>- umbrela elect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8T18:45:20Z</dcterms:created>
  <dc:creator>Grupa nr.5 cls.a - X -a</dc:creator>
  <dc:description/>
  <dc:language>en-US</dc:language>
  <cp:lastModifiedBy>Ileana</cp:lastModifiedBy>
  <dcterms:modified xsi:type="dcterms:W3CDTF">2009-07-18T19:03:34Z</dcterms:modified>
  <cp:revision>2</cp:revision>
  <dc:subject/>
  <dc:title>Masina Van de Graaf</dc:title>
</cp:coreProperties>
</file>